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FAC69-6EB7-428D-9B18-B94825BCF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724B5-470E-4458-BC61-7A079FC5F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90810D-D6CC-4B0F-B0A3-CA089A3CFD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86EB5-E8BD-4F5C-A738-C88B4836E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6C7614-E95A-49C4-9F00-AC936BB16F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70312-E9AF-48B7-B472-9AE835A41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C58136-B4B9-4420-84AB-AA13D9786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E62DB0-048A-4BA9-8654-A5C7B75ED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3E73F6-3517-4AAA-A221-DD22C60936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FCFB6C-3835-4D43-B28F-97C3ECEEDF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6751C2-E377-41F5-A214-14251F5DC6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EE0FF7-2FEB-4E7A-8101-D803D0151A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1D6EF-A7AE-44B6-BB3E-1737C21DD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9D0208-EB73-4028-A5D6-CD1B3B22F2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E8D796-867D-497E-9E4A-A6E4937B5C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453EE-A999-4FEC-9268-4821681AE6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2FE859-4CCE-45CD-90C5-20FE2C2EB2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2904B2-E285-45B2-BBC6-63BF19DCAF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88AA08-23AB-482E-8055-847A7AAB3C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43649A-C6D6-48DE-AD0C-078C9033B5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84A9D8-CFCA-4FDC-AF59-7F60E17D5E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EA1703-B3E3-4D03-A6F3-3E82C9B054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4254A3-076C-4AA5-B16A-A43280E808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07E8A-F509-4109-B42F-ED4770F09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94CDC2-4B95-428B-8799-FFFA9E3550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8415E1-D4E3-43D5-9DAA-487291D108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A78077-E0FE-444C-B127-6EE0CD7D07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443DFF-FF7B-4F8F-BDB9-3A91C00B97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C04999-D948-4CBC-A62C-EB0A3AD39A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80A2F1-7734-42EE-9329-6F71C74331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9DA157-0437-44C8-BAEC-750D2B6797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91419F-F5EF-40A6-A650-E1AF3CDC4A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5AF7F6-885B-411A-B80C-1E77B3688F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9FF15E-82C2-44F4-9728-B69A0145BF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50B293-7CF3-4F3F-ABB1-086191DC30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650CD9-8E07-4140-9CB6-D4D85E2073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125A3B-85A3-4DC5-9E38-4B984EAAB6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01B6DA-E026-4FE9-A0CA-6ACF80CCDF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E75BCB-A293-482C-89B8-AED4C4EB09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F4BF14-9275-4836-BC78-F664E99C2C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FC5D40-7321-4F37-A5A4-47B7261F22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B5AF11-8BFE-4F53-B415-372DA801F3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8F36A5-0251-4ECF-BCFF-7778632599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581D32-7E91-4ADD-B670-58CC12A835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669C80-6007-4C84-999E-387301C359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95EEBC-FD85-4858-AE1C-C866683CAC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FE354A-4D7C-4247-A5B8-4311191D6D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831CCF-1DA9-4C1F-BCF6-00A402A2C8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649987-8ADC-4DE8-A1A1-426A7B5DCA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973EFA-0CF9-4303-8DD3-EB8CAE0365C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44F07E-308E-4481-8693-DDB397E927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4C26F7-145D-4A1F-B17E-90CC982135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76C55F-B3C4-418C-ADE4-20D8A5E4F0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75A755-F051-4D1B-9E3E-1C6CD678BF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7EE1A8-9AF3-4CD6-B5A4-C7942BEB8A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17F67D-35DE-47E7-992A-AA2017F101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7FA08A-A6F8-43A3-8648-049E7E41FE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2C79EC-FFFD-4217-807B-48ADBEA54C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A2ED26-38A8-440A-94E7-BE69C75ECF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9EA59A-09D2-4DE7-8752-7AAAF7C28F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E8AEBFF-6C13-4626-85AB-AC7ABF1DA7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CD65C25-E854-4232-B579-BBE74917BE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F5A9F5-5E2A-4C37-9505-552DD6E37A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E4BD31-A799-451B-8E95-E047239027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11479A-8FFA-4DD7-8914-F76FC1D2CA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34F30C-D349-4CE6-BEDC-60E9BA2313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FDF6F0-EAF1-4D6B-B4FE-1CEA39677E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7BBBFF-C67B-4A37-AFDD-2518CA135B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C2F9BF-8452-42C7-80AC-B6509C2026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224D58-D8BA-4E52-9D67-2FADCDE51D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419B9C-38A6-4FB5-87E0-413DD9294E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74BCE2-6775-4FC7-A2FD-9D49F08B6DC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19A43B-E8A1-4535-BB37-A18FA5F590E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6543-3A60-4A3E-961F-3718510A4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D28C8B-85A0-45AE-A8B0-0D8034E2E3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DA1461-0A39-43CA-893F-42D9BDFD9D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7C9392-D263-42D4-9551-3288E69ED5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7C8B9E-443D-480E-9DC2-EABE87C893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ACFB29-92B7-47B2-80E1-E517C2C02B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7176-4FE2-4A58-A0E1-7A874610D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C50990-7A02-4402-B430-C2A9E024FE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0CAE23-E158-4780-BB41-AB3AFDD5DF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06E736-1F5A-4106-98B7-6085F810EC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FDC1CA-DAFD-4A36-AA83-222F1B7543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D7A856-2F5A-4159-83BF-168BA05D17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0AD67D-F9CD-4234-891A-E9A74648C6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B481841-0C0A-4B52-82F7-1B4F3D6C67E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A91C4-53EE-4FD8-A970-EA641C22F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29510-4E7E-49E0-B375-4C359AC62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07537-8768-433F-9CA2-7A1B561FF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0B5E6D-88AE-499F-8927-ABD78E92F0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C86772-3F06-4CDC-BD1B-3990E1EE4E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F728F5-FDC3-4355-9B74-CA81FB7AF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F3D07-09B0-4854-91B1-8D0EC1C70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1EDA5-D8FB-424B-9198-BD3529133B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B4C5A-A8E3-4B80-BC3D-8FED938F4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D3220B-84F3-4BB0-A7A2-97318AEEE1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A4DC2-06BB-4A7C-A8F2-548ABB9596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D0EB8-F7EE-4641-AD0C-0AF7408B0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470AF-258A-4CA8-811C-0F248387E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C6FFF3-736C-4D97-8204-F3966EC25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FBC29B-BB76-4068-BC19-C1D5C14786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8BAFDE-1720-4321-B3F3-B02825D370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C51550-0B71-4480-AB0C-106934437F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863459-6B41-4DCB-9802-E1E7C81080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CB9DD-1893-495B-ABF5-C66D70AC78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3500FF-376E-49A8-826D-53A1A35806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5B771-6609-4264-979D-C17450583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8A6484-7A7B-447F-918C-0E9C7767EC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95A56-EC84-479C-941D-044FB6F28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70B1F-EBB6-49B7-921A-0C8EAED17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96483A-F6CE-4E7C-82D0-2AE8E4832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D4C01-4C17-4B0E-A864-692546E64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B212C5-7468-4662-BDA7-12AD5BEF1D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AE87D2-4729-4B6D-95CF-5ECF0F914D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19F822-7836-4A0E-BC35-8CEA304590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D70F4D-9202-47C3-8E3F-7B288C6A34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0D7C98-7E08-487A-9B77-A36B53D02E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6A31F-7A4B-45E7-9210-CC33554A1A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52DD1E-A374-4032-AF06-3538703077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2E16EA-89BB-4327-9421-730D21A7CE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BC234-3884-486E-91CA-651EF7ED9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C3A9E0-50B2-4C2E-97FF-B58B43C561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F608D-B5DF-42B8-B5AD-023E830532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E684CE-44D6-4974-8E17-C0949CFE9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8B1C0-E01E-4B6B-B14D-18CE651A8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F0EEC-F879-4E9C-B530-2F70C73F97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CBEA7A-3DFF-4622-9A5C-A9902E3B9E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D936F1-CC8B-4ADA-AF18-51ACB7C669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7810A5-478A-4277-A075-98E84428C4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5835EF-6DE9-4C16-BB04-78056660AB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CCE410-CB59-41F2-A618-CA6A6FF80E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639D0-AE5D-4DC3-9A92-F328326824AB}"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4A767-9CC3-415B-9C3C-61A61F530A28}"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custGeom>
              <a:avLst/>
              <a:gdLst>
                <a:gd name="textAreaLeft" fmla="*/ 80640 w 4251240"/>
                <a:gd name="textAreaRight" fmla="*/ 4170600 w 4251240"/>
                <a:gd name="textAreaTop" fmla="*/ 80640 h 6388200"/>
                <a:gd name="textAreaBottom" fmla="*/ 6307560 h 6388200"/>
              </a:gdLst>
              <a:ahLst/>
              <a:rect l="textAreaLeft" t="textAreaTop" r="textAreaRight" b="textAreaBottom"/>
              <a:pathLst>
                <a:path w="4251960" h="6387352">
                  <a:moveTo>
                    <a:pt x="0" y="0"/>
                  </a:moveTo>
                  <a:lnTo>
                    <a:pt x="4090641" y="0"/>
                  </a:lnTo>
                  <a:lnTo>
                    <a:pt x="4251960" y="161319"/>
                  </a:lnTo>
                  <a:lnTo>
                    <a:pt x="4251960" y="6387352"/>
                  </a:lnTo>
                  <a:lnTo>
                    <a:pt x="161319" y="6387352"/>
                  </a:lnTo>
                  <a:lnTo>
                    <a:pt x="0" y="6226033"/>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392" name="Teardrop 8"/>
            <p:cNvSpPr/>
            <p:nvPr/>
          </p:nvSpPr>
          <p:spPr>
            <a:xfrm>
              <a:off x="3886200" y="431640"/>
              <a:ext cx="353880" cy="355320"/>
            </a:xfrm>
            <a:custGeom>
              <a:avLst/>
              <a:gdLst>
                <a:gd name="textAreaLeft" fmla="*/ 51840 w 353880"/>
                <a:gd name="textAreaRight" fmla="*/ 302040 w 353880"/>
                <a:gd name="textAreaTop" fmla="*/ 51840 h 355320"/>
                <a:gd name="textAreaBottom" fmla="*/ 303480 h 355320"/>
              </a:gdLst>
              <a:ahLst/>
              <a:rect l="textAreaLeft" t="textAreaTop" r="textAreaRight" b="textAreaBottom"/>
              <a:pathLst>
                <a:path w="354066" h="355558">
                  <a:moveTo>
                    <a:pt x="0" y="177779"/>
                  </a:moveTo>
                  <a:lnTo>
                    <a:pt x="0" y="177779"/>
                  </a:lnTo>
                  <a:arcTo wR="177033" hR="177779" stAng="10800000" swAng="5400000"/>
                  <a:lnTo>
                    <a:pt x="265549" y="0"/>
                  </a:lnTo>
                  <a:lnTo>
                    <a:pt x="354066" y="0"/>
                  </a:lnTo>
                  <a:lnTo>
                    <a:pt x="354066" y="133334"/>
                  </a:lnTo>
                  <a:arcTo wR="0" hR="44445" stAng="0" swAng="0"/>
                  <a:lnTo>
                    <a:pt x="328140" y="329523"/>
                  </a:lnTo>
                  <a:arcTo wR="-88517" hR="88890" stAng="2707228" swAng="10800000"/>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grpSp>
      <p:sp>
        <p:nvSpPr>
          <p:cNvPr id="393" name="Snip Diagonal Corner Rectangle 9"/>
          <p:cNvSpPr/>
          <p:nvPr/>
        </p:nvSpPr>
        <p:spPr>
          <a:xfrm flipV="1">
            <a:off x="4648320" y="227520"/>
            <a:ext cx="4251240" cy="6388200"/>
          </a:xfrm>
          <a:custGeom>
            <a:avLst/>
            <a:gdLst>
              <a:gd name="textAreaLeft" fmla="*/ 80640 w 4251240"/>
              <a:gd name="textAreaRight" fmla="*/ 4170600 w 4251240"/>
              <a:gd name="textAreaTop" fmla="*/ 80640 h 6388200"/>
              <a:gd name="textAreaBottom" fmla="*/ 6307560 h 6388200"/>
            </a:gdLst>
            <a:ahLst/>
            <a:rect l="textAreaLeft" t="textAreaTop" r="textAreaRight" b="textAreaBottom"/>
            <a:pathLst>
              <a:path w="4251325" h="6388100">
                <a:moveTo>
                  <a:pt x="0" y="0"/>
                </a:moveTo>
                <a:lnTo>
                  <a:pt x="4090030" y="0"/>
                </a:lnTo>
                <a:lnTo>
                  <a:pt x="4251325" y="161295"/>
                </a:lnTo>
                <a:lnTo>
                  <a:pt x="4251325" y="6388100"/>
                </a:lnTo>
                <a:lnTo>
                  <a:pt x="161295" y="6388100"/>
                </a:lnTo>
                <a:lnTo>
                  <a:pt x="0" y="6226805"/>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8135E6-3748-4CE4-98CA-7A9615DE36FC}"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82059-51F4-4FF1-B30E-A0C7A71015B4}"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custGeom>
              <a:avLst/>
              <a:gdLst>
                <a:gd name="textAreaLeft" fmla="*/ 80640 w 4251240"/>
                <a:gd name="textAreaRight" fmla="*/ 4170600 w 4251240"/>
                <a:gd name="textAreaTop" fmla="*/ 80640 h 6388200"/>
                <a:gd name="textAreaBottom" fmla="*/ 6307560 h 6388200"/>
              </a:gdLst>
              <a:ahLst/>
              <a:rect l="textAreaLeft" t="textAreaTop" r="textAreaRight" b="textAreaBottom"/>
              <a:pathLst>
                <a:path w="4251960" h="6387352">
                  <a:moveTo>
                    <a:pt x="0" y="0"/>
                  </a:moveTo>
                  <a:lnTo>
                    <a:pt x="4090641" y="0"/>
                  </a:lnTo>
                  <a:lnTo>
                    <a:pt x="4251960" y="161319"/>
                  </a:lnTo>
                  <a:lnTo>
                    <a:pt x="4251960" y="6387352"/>
                  </a:lnTo>
                  <a:lnTo>
                    <a:pt x="161319" y="6387352"/>
                  </a:lnTo>
                  <a:lnTo>
                    <a:pt x="0" y="6226033"/>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437" name="Teardrop 8"/>
            <p:cNvSpPr/>
            <p:nvPr/>
          </p:nvSpPr>
          <p:spPr>
            <a:xfrm>
              <a:off x="3886200" y="431640"/>
              <a:ext cx="353880" cy="355320"/>
            </a:xfrm>
            <a:custGeom>
              <a:avLst/>
              <a:gdLst>
                <a:gd name="textAreaLeft" fmla="*/ 51840 w 353880"/>
                <a:gd name="textAreaRight" fmla="*/ 302040 w 353880"/>
                <a:gd name="textAreaTop" fmla="*/ 51840 h 355320"/>
                <a:gd name="textAreaBottom" fmla="*/ 303480 h 355320"/>
              </a:gdLst>
              <a:ahLst/>
              <a:rect l="textAreaLeft" t="textAreaTop" r="textAreaRight" b="textAreaBottom"/>
              <a:pathLst>
                <a:path w="354066" h="355558">
                  <a:moveTo>
                    <a:pt x="0" y="177779"/>
                  </a:moveTo>
                  <a:lnTo>
                    <a:pt x="0" y="177779"/>
                  </a:lnTo>
                  <a:arcTo wR="177033" hR="177779" stAng="10800000" swAng="5400000"/>
                  <a:lnTo>
                    <a:pt x="265549" y="0"/>
                  </a:lnTo>
                  <a:lnTo>
                    <a:pt x="354066" y="0"/>
                  </a:lnTo>
                  <a:lnTo>
                    <a:pt x="354066" y="133334"/>
                  </a:lnTo>
                  <a:arcTo wR="0" hR="44445" stAng="0" swAng="0"/>
                  <a:lnTo>
                    <a:pt x="328140" y="329523"/>
                  </a:lnTo>
                  <a:arcTo wR="-88517" hR="88890" stAng="2707228" swAng="10800000"/>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B7594-8091-4146-9329-0377A3B41C9F}"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56D70-F50B-45B3-93B7-89B240A3E268}"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custGeom>
            <a:avLst/>
            <a:gdLst>
              <a:gd name="textAreaLeft" fmla="*/ 91800 w 8686800"/>
              <a:gd name="textAreaRight" fmla="*/ 8595000 w 8686800"/>
              <a:gd name="textAreaTop" fmla="*/ 91800 h 1963440"/>
              <a:gd name="textAreaBottom" fmla="*/ 1871640 h 1963440"/>
            </a:gdLst>
            <a:ahLst/>
            <a:rect l="textAreaLeft" t="textAreaTop" r="textAreaRight" b="textAreaBottom"/>
            <a:pathLst>
              <a:path w="8686800" h="1963738">
                <a:moveTo>
                  <a:pt x="0" y="0"/>
                </a:moveTo>
                <a:lnTo>
                  <a:pt x="8502739" y="0"/>
                </a:lnTo>
                <a:lnTo>
                  <a:pt x="8686800" y="184061"/>
                </a:lnTo>
                <a:lnTo>
                  <a:pt x="8686800" y="1963738"/>
                </a:lnTo>
                <a:lnTo>
                  <a:pt x="184061" y="1963738"/>
                </a:lnTo>
                <a:lnTo>
                  <a:pt x="0" y="1779677"/>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3CDE7-2C3D-4E44-8CD4-C96D2134185A}"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55925-0D7F-4B03-BEC1-D066076D00D3}"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custGeom>
            <a:avLst/>
            <a:gdLst>
              <a:gd name="textAreaLeft" fmla="*/ 97920 w 8686800"/>
              <a:gd name="textAreaRight" fmla="*/ 8588880 w 8686800"/>
              <a:gd name="textAreaTop" fmla="*/ 97920 h 4908600"/>
              <a:gd name="textAreaBottom" fmla="*/ 4810680 h 4908600"/>
            </a:gdLst>
            <a:ahLst/>
            <a:rect l="textAreaLeft" t="textAreaTop" r="textAreaRight" b="textAreaBottom"/>
            <a:pathLst>
              <a:path w="8686800" h="4908550">
                <a:moveTo>
                  <a:pt x="0" y="0"/>
                </a:moveTo>
                <a:lnTo>
                  <a:pt x="8490311" y="0"/>
                </a:lnTo>
                <a:lnTo>
                  <a:pt x="8686800" y="196489"/>
                </a:lnTo>
                <a:lnTo>
                  <a:pt x="8686800" y="4908550"/>
                </a:lnTo>
                <a:lnTo>
                  <a:pt x="196489" y="4908550"/>
                </a:lnTo>
                <a:lnTo>
                  <a:pt x="0" y="4712061"/>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522" name="Snip Diagonal Corner Rectangle 7"/>
          <p:cNvSpPr/>
          <p:nvPr/>
        </p:nvSpPr>
        <p:spPr>
          <a:xfrm flipV="1">
            <a:off x="228600" y="228240"/>
            <a:ext cx="8686800" cy="1278000"/>
          </a:xfrm>
          <a:custGeom>
            <a:avLst/>
            <a:gdLst>
              <a:gd name="textAreaLeft" fmla="*/ 74520 w 8686800"/>
              <a:gd name="textAreaRight" fmla="*/ 8612280 w 8686800"/>
              <a:gd name="textAreaTop" fmla="*/ 74520 h 1278000"/>
              <a:gd name="textAreaBottom" fmla="*/ 1203480 h 1278000"/>
            </a:gdLst>
            <a:ahLst/>
            <a:rect l="textAreaLeft" t="textAreaTop" r="textAreaRight" b="textAreaBottom"/>
            <a:pathLst>
              <a:path w="8686800" h="1277938">
                <a:moveTo>
                  <a:pt x="0" y="0"/>
                </a:moveTo>
                <a:lnTo>
                  <a:pt x="8537614" y="0"/>
                </a:lnTo>
                <a:lnTo>
                  <a:pt x="8686800" y="149186"/>
                </a:lnTo>
                <a:lnTo>
                  <a:pt x="8686800" y="1277938"/>
                </a:lnTo>
                <a:lnTo>
                  <a:pt x="149186" y="1277938"/>
                </a:lnTo>
                <a:lnTo>
                  <a:pt x="0" y="1128752"/>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DC8FE-1B83-49BC-AB69-50F53E6888AB}"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0119F-021B-44D6-BC3C-01C07E940876}"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custGeom>
            <a:avLst/>
            <a:gdLst>
              <a:gd name="textAreaLeft" fmla="*/ 80640 w 8686800"/>
              <a:gd name="textAreaRight" fmla="*/ 8606160 w 8686800"/>
              <a:gd name="textAreaTop" fmla="*/ 80640 h 6388200"/>
              <a:gd name="textAreaBottom" fmla="*/ 6307560 h 6388200"/>
            </a:gdLst>
            <a:ahLst/>
            <a:rect l="textAreaLeft" t="textAreaTop" r="textAreaRight" b="textAreaBottom"/>
            <a:pathLst>
              <a:path w="8686800" h="6388100">
                <a:moveTo>
                  <a:pt x="0" y="0"/>
                </a:moveTo>
                <a:lnTo>
                  <a:pt x="8525245" y="0"/>
                </a:lnTo>
                <a:lnTo>
                  <a:pt x="8686800" y="161555"/>
                </a:lnTo>
                <a:lnTo>
                  <a:pt x="8686800" y="6388100"/>
                </a:lnTo>
                <a:lnTo>
                  <a:pt x="161555" y="6388100"/>
                </a:lnTo>
                <a:lnTo>
                  <a:pt x="0" y="6226545"/>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272F1-14F0-4E2E-933B-8EBAC8AF89E6}"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CE8A9-0966-4C15-976B-83E4E26A857F}"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200"/>
                <a:ext cx="7543800" cy="2590920"/>
              </a:xfrm>
              <a:custGeom>
                <a:avLst/>
                <a:gdLst>
                  <a:gd name="textAreaLeft" fmla="*/ 0 w 7543800"/>
                  <a:gd name="textAreaRight" fmla="*/ 7448400 w 7543800"/>
                  <a:gd name="textAreaTop" fmla="*/ 95400 h 2590920"/>
                  <a:gd name="textAreaBottom" fmla="*/ 2591280 h 2590920"/>
                </a:gdLst>
                <a:ahLst/>
                <a:rect l="textAreaLeft" t="textAreaTop" r="textAreaRight" b="textAreaBottom"/>
                <a:pathLst>
                  <a:path w="7543801" h="2591543">
                    <a:moveTo>
                      <a:pt x="0" y="0"/>
                    </a:moveTo>
                    <a:lnTo>
                      <a:pt x="7352571" y="0"/>
                    </a:lnTo>
                    <a:lnTo>
                      <a:pt x="7543801" y="191230"/>
                    </a:lnTo>
                    <a:lnTo>
                      <a:pt x="7543801" y="2591543"/>
                    </a:lnTo>
                    <a:lnTo>
                      <a:pt x="0" y="2591543"/>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44" name="Straight Connector 10"/>
              <p:cNvSpPr/>
              <p:nvPr/>
            </p:nvSpPr>
            <p:spPr>
              <a:xfrm>
                <a:off x="0" y="337968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1800" spc="-1" strike="noStrike">
                  <a:solidFill>
                    <a:srgbClr val="103154"/>
                  </a:solidFill>
                  <a:latin typeface="Arial"/>
                </a:endParaRPr>
              </a:p>
            </p:txBody>
          </p:sp>
        </p:grpSp>
        <p:sp>
          <p:nvSpPr>
            <p:cNvPr id="45" name="Teardrop 8"/>
            <p:cNvSpPr/>
            <p:nvPr/>
          </p:nvSpPr>
          <p:spPr>
            <a:xfrm>
              <a:off x="6818400" y="3620880"/>
              <a:ext cx="393480" cy="395280"/>
            </a:xfrm>
            <a:custGeom>
              <a:avLst/>
              <a:gdLst>
                <a:gd name="textAreaLeft" fmla="*/ 57600 w 393480"/>
                <a:gd name="textAreaRight" fmla="*/ 335880 w 393480"/>
                <a:gd name="textAreaTop" fmla="*/ 57600 h 395280"/>
                <a:gd name="textAreaBottom" fmla="*/ 337680 h 395280"/>
              </a:gdLst>
              <a:ahLst/>
              <a:rect l="textAreaLeft" t="textAreaTop" r="textAreaRight" b="textAreaBottom"/>
              <a:pathLst>
                <a:path w="393700" h="395400">
                  <a:moveTo>
                    <a:pt x="0" y="197700"/>
                  </a:moveTo>
                  <a:lnTo>
                    <a:pt x="0" y="197700"/>
                  </a:lnTo>
                  <a:arcTo wR="196850" hR="197700" stAng="10800000" swAng="5400000"/>
                  <a:lnTo>
                    <a:pt x="295275" y="0"/>
                  </a:lnTo>
                  <a:lnTo>
                    <a:pt x="393700" y="0"/>
                  </a:lnTo>
                  <a:lnTo>
                    <a:pt x="393700" y="148275"/>
                  </a:lnTo>
                  <a:arcTo wR="0" hR="49425" stAng="0" swAng="0"/>
                  <a:lnTo>
                    <a:pt x="364872" y="366448"/>
                  </a:lnTo>
                  <a:arcTo wR="-98425" hR="98850" stAng="2707406" swAng="10800000"/>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1AD00-FEB1-4287-A061-CB049C483158}" type="datetime">
              <a:rPr b="1" lang="en-US" sz="1400" spc="-1" strike="noStrike">
                <a:solidFill>
                  <a:srgbClr val="7f7f7f"/>
                </a:solidFill>
                <a:latin typeface="Corbel"/>
              </a:rPr>
              <a:t>07/30/26</a:t>
            </a:fld>
            <a:endParaRPr b="0" lang="en-US" sz="1400" spc="-1" strike="noStrike">
              <a:solidFill>
                <a:srgbClr val="ffffff"/>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custGeom>
            <a:avLst/>
            <a:gdLst>
              <a:gd name="textAreaLeft" fmla="*/ 97920 w 8686800"/>
              <a:gd name="textAreaRight" fmla="*/ 8588880 w 8686800"/>
              <a:gd name="textAreaTop" fmla="*/ 97920 h 4908600"/>
              <a:gd name="textAreaBottom" fmla="*/ 4810680 h 4908600"/>
            </a:gdLst>
            <a:ahLst/>
            <a:rect l="textAreaLeft" t="textAreaTop" r="textAreaRight" b="textAreaBottom"/>
            <a:pathLst>
              <a:path w="8686800" h="4908550">
                <a:moveTo>
                  <a:pt x="0" y="0"/>
                </a:moveTo>
                <a:lnTo>
                  <a:pt x="8490311" y="0"/>
                </a:lnTo>
                <a:lnTo>
                  <a:pt x="8686800" y="196489"/>
                </a:lnTo>
                <a:lnTo>
                  <a:pt x="8686800" y="4908550"/>
                </a:lnTo>
                <a:lnTo>
                  <a:pt x="196489" y="4908550"/>
                </a:lnTo>
                <a:lnTo>
                  <a:pt x="0" y="4712061"/>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87" name="Snip Diagonal Corner Rectangle 7"/>
          <p:cNvSpPr/>
          <p:nvPr/>
        </p:nvSpPr>
        <p:spPr>
          <a:xfrm flipV="1">
            <a:off x="228600" y="228240"/>
            <a:ext cx="8686800" cy="1278000"/>
          </a:xfrm>
          <a:custGeom>
            <a:avLst/>
            <a:gdLst>
              <a:gd name="textAreaLeft" fmla="*/ 74520 w 8686800"/>
              <a:gd name="textAreaRight" fmla="*/ 8612280 w 8686800"/>
              <a:gd name="textAreaTop" fmla="*/ 74520 h 1278000"/>
              <a:gd name="textAreaBottom" fmla="*/ 1203480 h 1278000"/>
            </a:gdLst>
            <a:ahLst/>
            <a:rect l="textAreaLeft" t="textAreaTop" r="textAreaRight" b="textAreaBottom"/>
            <a:pathLst>
              <a:path w="8686800" h="1277938">
                <a:moveTo>
                  <a:pt x="0" y="0"/>
                </a:moveTo>
                <a:lnTo>
                  <a:pt x="8537614" y="0"/>
                </a:lnTo>
                <a:lnTo>
                  <a:pt x="8686800" y="149186"/>
                </a:lnTo>
                <a:lnTo>
                  <a:pt x="8686800" y="1277938"/>
                </a:lnTo>
                <a:lnTo>
                  <a:pt x="149186" y="1277938"/>
                </a:lnTo>
                <a:lnTo>
                  <a:pt x="0" y="1128752"/>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7135B-234E-4794-B926-1A86CB6436C5}"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2DC15-9018-41B1-87B9-9138BD91DDD4}"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200"/>
                <a:ext cx="7543800" cy="2590920"/>
              </a:xfrm>
              <a:custGeom>
                <a:avLst/>
                <a:gdLst>
                  <a:gd name="textAreaLeft" fmla="*/ 0 w 7543800"/>
                  <a:gd name="textAreaRight" fmla="*/ 7448400 w 7543800"/>
                  <a:gd name="textAreaTop" fmla="*/ 95400 h 2590920"/>
                  <a:gd name="textAreaBottom" fmla="*/ 2591280 h 2590920"/>
                </a:gdLst>
                <a:ahLst/>
                <a:rect l="textAreaLeft" t="textAreaTop" r="textAreaRight" b="textAreaBottom"/>
                <a:pathLst>
                  <a:path w="7543801" h="2591543">
                    <a:moveTo>
                      <a:pt x="0" y="0"/>
                    </a:moveTo>
                    <a:lnTo>
                      <a:pt x="7352571" y="0"/>
                    </a:lnTo>
                    <a:lnTo>
                      <a:pt x="7543801" y="191230"/>
                    </a:lnTo>
                    <a:lnTo>
                      <a:pt x="7543801" y="2591543"/>
                    </a:lnTo>
                    <a:lnTo>
                      <a:pt x="0" y="2591543"/>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132" name="Straight Connector 10"/>
              <p:cNvSpPr/>
              <p:nvPr/>
            </p:nvSpPr>
            <p:spPr>
              <a:xfrm>
                <a:off x="0" y="337968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1800" spc="-1" strike="noStrike">
                  <a:solidFill>
                    <a:srgbClr val="103154"/>
                  </a:solidFill>
                  <a:latin typeface="Arial"/>
                </a:endParaRPr>
              </a:p>
            </p:txBody>
          </p:sp>
        </p:grpSp>
        <p:sp>
          <p:nvSpPr>
            <p:cNvPr id="133" name="Teardrop 8"/>
            <p:cNvSpPr/>
            <p:nvPr/>
          </p:nvSpPr>
          <p:spPr>
            <a:xfrm>
              <a:off x="6818400" y="3620880"/>
              <a:ext cx="393480" cy="395280"/>
            </a:xfrm>
            <a:custGeom>
              <a:avLst/>
              <a:gdLst>
                <a:gd name="textAreaLeft" fmla="*/ 57600 w 393480"/>
                <a:gd name="textAreaRight" fmla="*/ 335880 w 393480"/>
                <a:gd name="textAreaTop" fmla="*/ 57600 h 395280"/>
                <a:gd name="textAreaBottom" fmla="*/ 337680 h 395280"/>
              </a:gdLst>
              <a:ahLst/>
              <a:rect l="textAreaLeft" t="textAreaTop" r="textAreaRight" b="textAreaBottom"/>
              <a:pathLst>
                <a:path w="393700" h="395400">
                  <a:moveTo>
                    <a:pt x="0" y="197700"/>
                  </a:moveTo>
                  <a:lnTo>
                    <a:pt x="0" y="197700"/>
                  </a:lnTo>
                  <a:arcTo wR="196850" hR="197700" stAng="10800000" swAng="5400000"/>
                  <a:lnTo>
                    <a:pt x="295275" y="0"/>
                  </a:lnTo>
                  <a:lnTo>
                    <a:pt x="393700" y="0"/>
                  </a:lnTo>
                  <a:lnTo>
                    <a:pt x="393700" y="148275"/>
                  </a:lnTo>
                  <a:arcTo wR="0" hR="49425" stAng="0" swAng="0"/>
                  <a:lnTo>
                    <a:pt x="364872" y="366448"/>
                  </a:lnTo>
                  <a:arcTo wR="-98425" hR="98850" stAng="2707406" swAng="10800000"/>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1067D-DC67-4684-A2A5-CE9AAEE062A9}" type="datetime">
              <a:rPr b="1" lang="en-US" sz="1400" spc="-1" strike="noStrike">
                <a:solidFill>
                  <a:srgbClr val="7f7f7f"/>
                </a:solidFill>
                <a:latin typeface="Corbel"/>
              </a:rPr>
              <a:t>07/30/26</a:t>
            </a:fld>
            <a:endParaRPr b="0" lang="en-US" sz="1400" spc="-1" strike="noStrike">
              <a:solidFill>
                <a:srgbClr val="ffffff"/>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120"/>
                <a:ext cx="7543800" cy="2590920"/>
              </a:xfrm>
              <a:custGeom>
                <a:avLst/>
                <a:gdLst>
                  <a:gd name="textAreaLeft" fmla="*/ -360 w 7543800"/>
                  <a:gd name="textAreaRight" fmla="*/ 7448040 w 7543800"/>
                  <a:gd name="textAreaTop" fmla="*/ 95400 h 2590920"/>
                  <a:gd name="textAreaBottom" fmla="*/ 2591280 h 2590920"/>
                </a:gdLst>
                <a:ahLst/>
                <a:rect l="textAreaLeft" t="textAreaTop" r="textAreaRight" b="textAreaBottom"/>
                <a:pathLst>
                  <a:path w="7543801" h="2591543">
                    <a:moveTo>
                      <a:pt x="0" y="0"/>
                    </a:moveTo>
                    <a:lnTo>
                      <a:pt x="7352571" y="0"/>
                    </a:lnTo>
                    <a:lnTo>
                      <a:pt x="7543801" y="191230"/>
                    </a:lnTo>
                    <a:lnTo>
                      <a:pt x="7543801" y="2591543"/>
                    </a:lnTo>
                    <a:lnTo>
                      <a:pt x="0" y="2591543"/>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177" name="Straight Connector 10"/>
              <p:cNvSpPr/>
              <p:nvPr/>
            </p:nvSpPr>
            <p:spPr>
              <a:xfrm flipH="1">
                <a:off x="1599840" y="212724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1800" spc="-1" strike="noStrike">
                  <a:solidFill>
                    <a:srgbClr val="103154"/>
                  </a:solidFill>
                  <a:latin typeface="Arial"/>
                </a:endParaRPr>
              </a:p>
            </p:txBody>
          </p:sp>
        </p:grpSp>
        <p:sp>
          <p:nvSpPr>
            <p:cNvPr id="178" name="Teardrop 8"/>
            <p:cNvSpPr/>
            <p:nvPr/>
          </p:nvSpPr>
          <p:spPr>
            <a:xfrm>
              <a:off x="8521920" y="2368440"/>
              <a:ext cx="393480" cy="395280"/>
            </a:xfrm>
            <a:custGeom>
              <a:avLst/>
              <a:gdLst>
                <a:gd name="textAreaLeft" fmla="*/ 57600 w 393480"/>
                <a:gd name="textAreaRight" fmla="*/ 335880 w 393480"/>
                <a:gd name="textAreaTop" fmla="*/ 57600 h 395280"/>
                <a:gd name="textAreaBottom" fmla="*/ 337680 h 395280"/>
              </a:gdLst>
              <a:ahLst/>
              <a:rect l="textAreaLeft" t="textAreaTop" r="textAreaRight" b="textAreaBottom"/>
              <a:pathLst>
                <a:path w="393700" h="395401">
                  <a:moveTo>
                    <a:pt x="0" y="197701"/>
                  </a:moveTo>
                  <a:lnTo>
                    <a:pt x="0" y="197701"/>
                  </a:lnTo>
                  <a:arcTo wR="196850" hR="197701" stAng="10800000" swAng="5400000"/>
                  <a:lnTo>
                    <a:pt x="295275" y="0"/>
                  </a:lnTo>
                  <a:lnTo>
                    <a:pt x="393700" y="0"/>
                  </a:lnTo>
                  <a:lnTo>
                    <a:pt x="393700" y="148276"/>
                  </a:lnTo>
                  <a:arcTo wR="0" hR="49426" stAng="0" swAng="0"/>
                  <a:lnTo>
                    <a:pt x="364872" y="366449"/>
                  </a:lnTo>
                  <a:arcTo wR="-98425" hR="98851" stAng="2707415" swAng="10800000"/>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2E0C9-F160-484A-ACF1-EBB9A70943BB}" type="datetime">
              <a:rPr b="1" lang="en-US" sz="1400" spc="-1" strike="noStrike">
                <a:solidFill>
                  <a:srgbClr val="7f7f7f"/>
                </a:solidFill>
                <a:latin typeface="Corbel"/>
              </a:rPr>
              <a:t>07/30/26</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custGeom>
            <a:avLst/>
            <a:gdLst>
              <a:gd name="textAreaLeft" fmla="*/ 97920 w 8686800"/>
              <a:gd name="textAreaRight" fmla="*/ 8588880 w 8686800"/>
              <a:gd name="textAreaTop" fmla="*/ 97920 h 4908600"/>
              <a:gd name="textAreaBottom" fmla="*/ 4810680 h 4908600"/>
            </a:gdLst>
            <a:ahLst/>
            <a:rect l="textAreaLeft" t="textAreaTop" r="textAreaRight" b="textAreaBottom"/>
            <a:pathLst>
              <a:path w="8686800" h="4908550">
                <a:moveTo>
                  <a:pt x="0" y="0"/>
                </a:moveTo>
                <a:lnTo>
                  <a:pt x="8490311" y="0"/>
                </a:lnTo>
                <a:lnTo>
                  <a:pt x="8686800" y="196489"/>
                </a:lnTo>
                <a:lnTo>
                  <a:pt x="8686800" y="4908550"/>
                </a:lnTo>
                <a:lnTo>
                  <a:pt x="196489" y="4908550"/>
                </a:lnTo>
                <a:lnTo>
                  <a:pt x="0" y="4712061"/>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220" name="Snip Diagonal Corner Rectangle 7"/>
          <p:cNvSpPr/>
          <p:nvPr/>
        </p:nvSpPr>
        <p:spPr>
          <a:xfrm flipV="1">
            <a:off x="228600" y="228240"/>
            <a:ext cx="8686800" cy="1278000"/>
          </a:xfrm>
          <a:custGeom>
            <a:avLst/>
            <a:gdLst>
              <a:gd name="textAreaLeft" fmla="*/ 74520 w 8686800"/>
              <a:gd name="textAreaRight" fmla="*/ 8612280 w 8686800"/>
              <a:gd name="textAreaTop" fmla="*/ 74520 h 1278000"/>
              <a:gd name="textAreaBottom" fmla="*/ 1203480 h 1278000"/>
            </a:gdLst>
            <a:ahLst/>
            <a:rect l="textAreaLeft" t="textAreaTop" r="textAreaRight" b="textAreaBottom"/>
            <a:pathLst>
              <a:path w="8686800" h="1277938">
                <a:moveTo>
                  <a:pt x="0" y="0"/>
                </a:moveTo>
                <a:lnTo>
                  <a:pt x="8537614" y="0"/>
                </a:lnTo>
                <a:lnTo>
                  <a:pt x="8686800" y="149186"/>
                </a:lnTo>
                <a:lnTo>
                  <a:pt x="8686800" y="1277938"/>
                </a:lnTo>
                <a:lnTo>
                  <a:pt x="149186" y="1277938"/>
                </a:lnTo>
                <a:lnTo>
                  <a:pt x="0" y="1128752"/>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66361-B28D-4915-80CC-1D18686CFA32}"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87DAC-CAFB-4605-B27E-A144478EE96C}"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custGeom>
            <a:avLst/>
            <a:gdLst>
              <a:gd name="textAreaLeft" fmla="*/ 97920 w 8686800"/>
              <a:gd name="textAreaRight" fmla="*/ 8588880 w 8686800"/>
              <a:gd name="textAreaTop" fmla="*/ 97920 h 4908600"/>
              <a:gd name="textAreaBottom" fmla="*/ 4810680 h 4908600"/>
            </a:gdLst>
            <a:ahLst/>
            <a:rect l="textAreaLeft" t="textAreaTop" r="textAreaRight" b="textAreaBottom"/>
            <a:pathLst>
              <a:path w="8686800" h="4908550">
                <a:moveTo>
                  <a:pt x="0" y="0"/>
                </a:moveTo>
                <a:lnTo>
                  <a:pt x="8490311" y="0"/>
                </a:lnTo>
                <a:lnTo>
                  <a:pt x="8686800" y="196489"/>
                </a:lnTo>
                <a:lnTo>
                  <a:pt x="8686800" y="4908550"/>
                </a:lnTo>
                <a:lnTo>
                  <a:pt x="196489" y="4908550"/>
                </a:lnTo>
                <a:lnTo>
                  <a:pt x="0" y="4712061"/>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263" name="Snip Diagonal Corner Rectangle 7"/>
          <p:cNvSpPr/>
          <p:nvPr/>
        </p:nvSpPr>
        <p:spPr>
          <a:xfrm flipV="1">
            <a:off x="228600" y="228240"/>
            <a:ext cx="8686800" cy="1278000"/>
          </a:xfrm>
          <a:custGeom>
            <a:avLst/>
            <a:gdLst>
              <a:gd name="textAreaLeft" fmla="*/ 74520 w 8686800"/>
              <a:gd name="textAreaRight" fmla="*/ 8612280 w 8686800"/>
              <a:gd name="textAreaTop" fmla="*/ 74520 h 1278000"/>
              <a:gd name="textAreaBottom" fmla="*/ 1203480 h 1278000"/>
            </a:gdLst>
            <a:ahLst/>
            <a:rect l="textAreaLeft" t="textAreaTop" r="textAreaRight" b="textAreaBottom"/>
            <a:pathLst>
              <a:path w="8686800" h="1277938">
                <a:moveTo>
                  <a:pt x="0" y="0"/>
                </a:moveTo>
                <a:lnTo>
                  <a:pt x="8537614" y="0"/>
                </a:lnTo>
                <a:lnTo>
                  <a:pt x="8686800" y="149186"/>
                </a:lnTo>
                <a:lnTo>
                  <a:pt x="8686800" y="1277938"/>
                </a:lnTo>
                <a:lnTo>
                  <a:pt x="149186" y="1277938"/>
                </a:lnTo>
                <a:lnTo>
                  <a:pt x="0" y="1128752"/>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10EA4-627A-44DC-917E-CF19EBE50C16}"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B6562-72D0-431E-B3C4-E5375CB52F2B}"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custGeom>
            <a:avLst/>
            <a:gdLst>
              <a:gd name="textAreaLeft" fmla="*/ 97920 w 8686800"/>
              <a:gd name="textAreaRight" fmla="*/ 8588880 w 8686800"/>
              <a:gd name="textAreaTop" fmla="*/ 97920 h 4908600"/>
              <a:gd name="textAreaBottom" fmla="*/ 4810680 h 4908600"/>
            </a:gdLst>
            <a:ahLst/>
            <a:rect l="textAreaLeft" t="textAreaTop" r="textAreaRight" b="textAreaBottom"/>
            <a:pathLst>
              <a:path w="8686800" h="4908550">
                <a:moveTo>
                  <a:pt x="0" y="0"/>
                </a:moveTo>
                <a:lnTo>
                  <a:pt x="8490311" y="0"/>
                </a:lnTo>
                <a:lnTo>
                  <a:pt x="8686800" y="196489"/>
                </a:lnTo>
                <a:lnTo>
                  <a:pt x="8686800" y="4908550"/>
                </a:lnTo>
                <a:lnTo>
                  <a:pt x="196489" y="4908550"/>
                </a:lnTo>
                <a:lnTo>
                  <a:pt x="0" y="4712061"/>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306" name="Snip Diagonal Corner Rectangle 7"/>
          <p:cNvSpPr/>
          <p:nvPr/>
        </p:nvSpPr>
        <p:spPr>
          <a:xfrm flipV="1">
            <a:off x="228600" y="228240"/>
            <a:ext cx="8686800" cy="1278000"/>
          </a:xfrm>
          <a:custGeom>
            <a:avLst/>
            <a:gdLst>
              <a:gd name="textAreaLeft" fmla="*/ 74520 w 8686800"/>
              <a:gd name="textAreaRight" fmla="*/ 8612280 w 8686800"/>
              <a:gd name="textAreaTop" fmla="*/ 74520 h 1278000"/>
              <a:gd name="textAreaBottom" fmla="*/ 1203480 h 1278000"/>
            </a:gdLst>
            <a:ahLst/>
            <a:rect l="textAreaLeft" t="textAreaTop" r="textAreaRight" b="textAreaBottom"/>
            <a:pathLst>
              <a:path w="8686800" h="1277938">
                <a:moveTo>
                  <a:pt x="0" y="0"/>
                </a:moveTo>
                <a:lnTo>
                  <a:pt x="8537614" y="0"/>
                </a:lnTo>
                <a:lnTo>
                  <a:pt x="8686800" y="149186"/>
                </a:lnTo>
                <a:lnTo>
                  <a:pt x="8686800" y="1277938"/>
                </a:lnTo>
                <a:lnTo>
                  <a:pt x="149186" y="1277938"/>
                </a:lnTo>
                <a:lnTo>
                  <a:pt x="0" y="1128752"/>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E6D00-24E1-4B44-B945-36C59B89F952}"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7D9F5-A8FF-4032-9FCA-AC45EA7A8894}"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custGeom>
            <a:avLst/>
            <a:gdLst>
              <a:gd name="textAreaLeft" fmla="*/ 80640 w 8686800"/>
              <a:gd name="textAreaRight" fmla="*/ 8606160 w 8686800"/>
              <a:gd name="textAreaTop" fmla="*/ 80640 h 6388200"/>
              <a:gd name="textAreaBottom" fmla="*/ 6307560 h 6388200"/>
            </a:gdLst>
            <a:ahLst/>
            <a:rect l="textAreaLeft" t="textAreaTop" r="textAreaRight" b="textAreaBottom"/>
            <a:pathLst>
              <a:path w="8686800" h="6388100">
                <a:moveTo>
                  <a:pt x="0" y="0"/>
                </a:moveTo>
                <a:lnTo>
                  <a:pt x="8525245" y="0"/>
                </a:lnTo>
                <a:lnTo>
                  <a:pt x="8686800" y="161555"/>
                </a:lnTo>
                <a:lnTo>
                  <a:pt x="8686800" y="6388100"/>
                </a:lnTo>
                <a:lnTo>
                  <a:pt x="161555" y="6388100"/>
                </a:lnTo>
                <a:lnTo>
                  <a:pt x="0" y="6226545"/>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BC8E0-5B52-47B7-AF23-FC317075D7E2}" type="datetime">
              <a:rPr b="1" lang="en-US" sz="1100" spc="-1" strike="noStrike">
                <a:solidFill>
                  <a:srgbClr val="a6a6a6"/>
                </a:solidFill>
                <a:latin typeface="Corbel"/>
              </a:rPr>
              <a:t>07/30/26</a:t>
            </a:fld>
            <a:endParaRPr b="0" lang="en-US" sz="1100" spc="-1" strike="noStrike">
              <a:solidFill>
                <a:srgbClr val="ffffff"/>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5F4C6-B41E-478A-94F7-1FEEF0B466C0}"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371600" y="3912840"/>
            <a:ext cx="586728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74576"/>
                </a:solidFill>
                <a:latin typeface="Corbel"/>
              </a:rPr>
              <a:t>What can be more powerful than words?</a:t>
            </a:r>
            <a:endParaRPr b="0" lang="en-US" sz="4100" spc="-1" strike="noStrike">
              <a:solidFill>
                <a:srgbClr val="174576"/>
              </a:solidFill>
              <a:latin typeface="Corbel"/>
            </a:endParaRPr>
          </a:p>
        </p:txBody>
      </p:sp>
      <p:sp>
        <p:nvSpPr>
          <p:cNvPr id="607" name="PlaceHolder 2"/>
          <p:cNvSpPr>
            <a:spLocks noGrp="1"/>
          </p:cNvSpPr>
          <p:nvPr>
            <p:ph type="subTitle"/>
          </p:nvPr>
        </p:nvSpPr>
        <p:spPr>
          <a:xfrm>
            <a:off x="1371600" y="5397480"/>
            <a:ext cx="5867280" cy="573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Subtext</a:t>
            </a:r>
            <a:endParaRPr b="0" lang="en-US" sz="14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2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did you think of first when you heard the first line of the conversation? Why?</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did you notice your mind doing as we continued?</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influences a reader when they come across a conversation like this? Brainstorm with your table.</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6" descr=""/>
          <p:cNvPicPr/>
          <p:nvPr/>
        </p:nvPicPr>
        <p:blipFill>
          <a:blip r:embed="rId1"/>
          <a:stretch/>
        </p:blipFill>
        <p:spPr>
          <a:xfrm>
            <a:off x="166680" y="130320"/>
            <a:ext cx="8798040" cy="6562440"/>
          </a:xfrm>
          <a:prstGeom prst="rect">
            <a:avLst/>
          </a:prstGeom>
          <a:ln w="0">
            <a:noFill/>
          </a:ln>
        </p:spPr>
      </p:pic>
      <p:sp>
        <p:nvSpPr>
          <p:cNvPr id="631"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One of my favorite poems</a:t>
            </a:r>
            <a:endParaRPr b="0" lang="en-US" sz="3800" spc="-1" strike="noStrike">
              <a:solidFill>
                <a:srgbClr val="174576"/>
              </a:solidFill>
              <a:latin typeface="Corbel"/>
            </a:endParaRPr>
          </a:p>
        </p:txBody>
      </p:sp>
      <p:pic>
        <p:nvPicPr>
          <p:cNvPr id="632" name="12 The Most Beautiful Girl (In The Room).m4a" descr="/Users/jbarbery/Music/iTunes/iTunes Music/Music/Flight Of The Conchords/Flight Of The Conchords/12 The Most Beautiful Girl (In The Room).m4a"/>
          <p:cNvPicPr/>
          <p:nvPr/>
        </p:nvPicPr>
        <p:blipFill>
          <a:blip r:embed="rId2"/>
          <a:stretch/>
        </p:blipFill>
        <p:spPr>
          <a:xfrm>
            <a:off x="297000" y="5791320"/>
            <a:ext cx="1523880" cy="698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restart="whenNotActive" nodeType="interactiveSeq" fill="hold">
                <p:stCondLst>
                  <p:cond evt="onClick">
                    <p:tgtEl>
                      <p:spTgt spid="632"/>
                    </p:tgtEl>
                  </p:cond>
                </p:stCondLst>
                <p:childTnLst>
                  <p:par>
                    <p:cTn id="96" fill="hold">
                      <p:stCondLst>
                        <p:cond evt="onClick">
                          <p:tgtEl>
                            <p:spTgt spid="632"/>
                          </p:tgtEl>
                        </p:cond>
                      </p:stCondLst>
                      <p:childTnLst>
                        <p:par>
                          <p:cTn id="97" fill="hold">
                            <p:stCondLst>
                              <p:cond delay="0"/>
                            </p:stCondLst>
                            <p:childTnLst>
                              <p:par>
                                <p:cTn id="98" nodeType="clickEffect" fill="hold" presetClass="mediacall" presetID="2">
                                  <p:stCondLst>
                                    <p:cond delay="0"/>
                                  </p:stCondLst>
                                  <p:childTnLst>
                                    <p:cmd type="call" cmd="togglePause">
                                      <p:cBhvr>
                                        <p:cTn id="99" dur="1" fill="hold"/>
                                        <p:tgtEl>
                                          <p:spTgt spid="6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Group Work!</a:t>
            </a:r>
            <a:endParaRPr b="0" lang="en-US" sz="3800" spc="-1" strike="noStrike">
              <a:solidFill>
                <a:srgbClr val="174576"/>
              </a:solidFill>
              <a:latin typeface="Corbel"/>
            </a:endParaRPr>
          </a:p>
        </p:txBody>
      </p:sp>
      <p:sp>
        <p:nvSpPr>
          <p:cNvPr id="634"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Participants will be able to write implied messages by responding to a male suitors advances. </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74576"/>
                </a:solidFill>
                <a:latin typeface="Corbel"/>
              </a:rPr>
              <a:t>Narrative Analysis of Grade-Level-Appropriate Text</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74576"/>
                </a:solidFill>
                <a:latin typeface="Corbel"/>
              </a:rPr>
              <a:t>3.3Analyze interactions between main and subordinate characters in a literary text (e.g., internal and external conflicts, motivations, relationships, influences) and explain the way those interactions affect the plot.</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74576"/>
                </a:solidFill>
                <a:latin typeface="Corbel"/>
              </a:rPr>
              <a:t>3.4Determine characters’ traits by what the characters say about themselves in narration, dialogue, dramatic monologue, and soliloquy.</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1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2.2Write responses to </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 Ideas of literary works. </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b. Support important ideas and viewpoints through accurate and detailed references to the text or to other works. </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c. Demonstrate awareness of the author’s use of stylistic devices and an appreciation of the effects created. </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d. Identify and assess the impact of perceived ambiguities, nuances, and complexities within the text.</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Rationale</a:t>
            </a:r>
            <a:endParaRPr b="0" lang="en-US" sz="3800" spc="-1" strike="noStrike">
              <a:solidFill>
                <a:srgbClr val="174576"/>
              </a:solidFill>
              <a:latin typeface="Corbel"/>
            </a:endParaRPr>
          </a:p>
        </p:txBody>
      </p:sp>
      <p:sp>
        <p:nvSpPr>
          <p:cNvPr id="613" name=""/>
          <p:cNvSpPr txBox="1"/>
          <p:nvPr/>
        </p:nvSpPr>
        <p:spPr>
          <a:xfrm>
            <a:off x="779040" y="1949400"/>
            <a:ext cx="7583400" cy="4006800"/>
          </a:xfrm>
          <a:prstGeom prst="rect">
            <a:avLst/>
          </a:prstGeom>
          <a:noFill/>
          <a:ln w="0">
            <a:noFill/>
          </a:ln>
        </p:spPr>
        <p:txBody>
          <a:bodyPr anchor="t">
            <a:normAutofit fontScale="99000"/>
          </a:bodyPr>
          <a:p>
            <a:pPr marL="339480" indent="-3394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Participants will engage in a lesson focused on understanding authentic communication. Because participants engage in with texts and formats that are familiar, they are better able to understand the innuendo that many forms of communication have imbedded. </a:t>
            </a:r>
            <a:endParaRPr b="0" lang="en-US" sz="2200" spc="-1" strike="noStrike">
              <a:solidFill>
                <a:srgbClr val="174576"/>
              </a:solidFill>
              <a:latin typeface="Corbel"/>
            </a:endParaRPr>
          </a:p>
          <a:p>
            <a:pPr lvl="1" marL="678600" indent="-3330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Hudelson explains: “Students learn to read by interacting with whole authentic texts and they learn to write by creating whole authentic text… by having others react to what they have created, by revising their pieces, and by using their reading knowledge to help them write like readers.” </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Rationale</a:t>
            </a:r>
            <a:endParaRPr b="0" lang="en-US" sz="3800" spc="-1" strike="noStrike">
              <a:solidFill>
                <a:srgbClr val="174576"/>
              </a:solidFill>
              <a:latin typeface="Corbel"/>
            </a:endParaRPr>
          </a:p>
        </p:txBody>
      </p:sp>
      <p:sp>
        <p:nvSpPr>
          <p:cNvPr id="615"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Many of our ELL students don’t understand American idioms, standards of writing or slang. It is important that they be introduced to the language of the culture and peer group to be able to move on from the “playground” conversations.</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e know that ELL Students can be derailed by obstacles that would not affect native speakers: vocabulary and idioms, unfamiliar syntactical structures, different cultural references and norms, stylistic variations. Rather than shy away from these challenges, we teach them.” (Peitzman, 2005)</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ontent and Language Objective</a:t>
            </a:r>
            <a:endParaRPr b="0" lang="en-US" sz="3800" spc="-1" strike="noStrike">
              <a:solidFill>
                <a:srgbClr val="174576"/>
              </a:solidFill>
              <a:latin typeface="Corbel"/>
            </a:endParaRPr>
          </a:p>
        </p:txBody>
      </p:sp>
      <p:sp>
        <p:nvSpPr>
          <p:cNvPr id="617"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Participants will be able to write implied messages by responding to a male suitors advances. </a:t>
            </a:r>
            <a:endParaRPr b="0" lang="en-US" sz="2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How many of you have received a text like this?</a:t>
            </a:r>
            <a:endParaRPr b="0" lang="en-US" sz="3400" spc="-1" strike="noStrike">
              <a:solidFill>
                <a:srgbClr val="174576"/>
              </a:solidFill>
              <a:latin typeface="Corbel"/>
            </a:endParaRPr>
          </a:p>
        </p:txBody>
      </p:sp>
      <p:sp>
        <p:nvSpPr>
          <p:cNvPr id="619" name=""/>
          <p:cNvSpPr txBox="1"/>
          <p:nvPr/>
        </p:nvSpPr>
        <p:spPr>
          <a:xfrm>
            <a:off x="779040" y="1949400"/>
            <a:ext cx="7583400" cy="4006800"/>
          </a:xfrm>
          <a:prstGeom prst="rect">
            <a:avLst/>
          </a:prstGeom>
          <a:noFill/>
          <a:ln w="0">
            <a:noFill/>
          </a:ln>
        </p:spPr>
        <p:txBody>
          <a:bodyPr anchor="t">
            <a:normAutofit/>
          </a:bodyPr>
          <a:p>
            <a:pPr marL="343080" indent="-343080" algn="ctr">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pic>
        <p:nvPicPr>
          <p:cNvPr id="620" name="Picture 3" descr=""/>
          <p:cNvPicPr/>
          <p:nvPr/>
        </p:nvPicPr>
        <p:blipFill>
          <a:blip r:embed="rId1"/>
          <a:stretch/>
        </p:blipFill>
        <p:spPr>
          <a:xfrm>
            <a:off x="3078000" y="1746360"/>
            <a:ext cx="3222720" cy="4829040"/>
          </a:xfrm>
          <a:prstGeom prst="rect">
            <a:avLst/>
          </a:prstGeom>
          <a:ln w="0">
            <a:noFill/>
          </a:ln>
        </p:spPr>
      </p:pic>
      <p:sp>
        <p:nvSpPr>
          <p:cNvPr id="621" name="TextBox 4"/>
          <p:cNvSpPr/>
          <p:nvPr/>
        </p:nvSpPr>
        <p:spPr>
          <a:xfrm>
            <a:off x="212760" y="3633840"/>
            <a:ext cx="2865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154"/>
                </a:solidFill>
                <a:latin typeface="Corbel"/>
              </a:rPr>
              <a:t>What is he really saying?</a:t>
            </a:r>
            <a:endParaRPr b="0" lang="en-US" sz="2000" spc="-1" strike="noStrike">
              <a:solidFill>
                <a:srgbClr val="10315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621"/>
                                        </p:tgtEl>
                                        <p:attrNameLst>
                                          <p:attrName>style.visibility</p:attrName>
                                        </p:attrNameLst>
                                      </p:cBhvr>
                                      <p:to>
                                        <p:strVal val="visible"/>
                                      </p:to>
                                    </p:set>
                                    <p:animEffect filter="fade" transition="in">
                                      <p:cBhvr additive="repl">
                                        <p:cTn id="7" dur="1000"/>
                                        <p:tgtEl>
                                          <p:spTgt spid="621"/>
                                        </p:tgtEl>
                                      </p:cBhvr>
                                    </p:animEffect>
                                    <p:anim calcmode="lin" valueType="num">
                                      <p:cBhvr additive="repl">
                                        <p:cTn id="8" dur="1000" fill="hold"/>
                                        <p:tgtEl>
                                          <p:spTgt spid="621"/>
                                        </p:tgtEl>
                                        <p:attrNameLst>
                                          <p:attrName>ppt_x</p:attrName>
                                        </p:attrNameLst>
                                      </p:cBhvr>
                                      <p:tavLst>
                                        <p:tav tm="0">
                                          <p:val>
                                            <p:strVal val="#ppt_x"/>
                                          </p:val>
                                        </p:tav>
                                        <p:tav tm="100000">
                                          <p:val>
                                            <p:strVal val="#ppt_x"/>
                                          </p:val>
                                        </p:tav>
                                      </p:tavLst>
                                    </p:anim>
                                    <p:anim calcmode="lin" valueType="num">
                                      <p:cBhvr additive="repl">
                                        <p:cTn id="9" dur="900" fill="hold"/>
                                        <p:tgtEl>
                                          <p:spTgt spid="621"/>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62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Subtext</a:t>
            </a:r>
            <a:endParaRPr b="0" lang="en-US" sz="3800" spc="-1" strike="noStrike">
              <a:solidFill>
                <a:srgbClr val="174576"/>
              </a:solidFill>
              <a:latin typeface="Corbel"/>
            </a:endParaRPr>
          </a:p>
        </p:txBody>
      </p:sp>
      <p:sp>
        <p:nvSpPr>
          <p:cNvPr id="623"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ome synonyms for subtext: connotation, hidden meaning, insinuation, underton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How were you able to figure out that what John said isn’t what he mean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prevents John from speaking freely about how he really feels? </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174576"/>
                </a:solidFill>
                <a:latin typeface="Corbel"/>
              </a:rPr>
              <a:t>Try this one:</a:t>
            </a:r>
            <a:br>
              <a:rPr sz="3800"/>
            </a:br>
            <a:r>
              <a:rPr b="0" lang="en-US" sz="2400" spc="-1" strike="noStrike">
                <a:solidFill>
                  <a:srgbClr val="174576"/>
                </a:solidFill>
                <a:latin typeface="Corbel"/>
              </a:rPr>
              <a:t>Near a gate at the Atlanta Airport, a man in his thirties wearing a business suit has just placed a call.</a:t>
            </a:r>
            <a:endParaRPr b="0" lang="en-US" sz="2400" spc="-1" strike="noStrike">
              <a:solidFill>
                <a:srgbClr val="174576"/>
              </a:solidFill>
              <a:latin typeface="Corbel"/>
            </a:endParaRPr>
          </a:p>
        </p:txBody>
      </p:sp>
      <p:sp>
        <p:nvSpPr>
          <p:cNvPr id="625" name=""/>
          <p:cNvSpPr txBox="1"/>
          <p:nvPr/>
        </p:nvSpPr>
        <p:spPr>
          <a:xfrm>
            <a:off x="779400" y="1981080"/>
            <a:ext cx="3657600" cy="3975120"/>
          </a:xfrm>
          <a:prstGeom prst="rect">
            <a:avLst/>
          </a:prstGeom>
          <a:noFill/>
          <a:ln w="0">
            <a:noFill/>
          </a:ln>
        </p:spPr>
        <p:txBody>
          <a:bodyPr anchor="t">
            <a:normAutofit fontScale="96000"/>
          </a:bodyPr>
          <a:p>
            <a:pPr marL="329040" indent="-329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t>
            </a:r>
            <a:r>
              <a:rPr b="0" lang="en-US" sz="2000" spc="-1" strike="noStrike">
                <a:solidFill>
                  <a:srgbClr val="174576"/>
                </a:solidFill>
                <a:latin typeface="Corbel"/>
              </a:rPr>
              <a:t>Hi, baby.</a:t>
            </a:r>
            <a:endParaRPr b="0" lang="en-US" sz="2000" spc="-1" strike="noStrike">
              <a:solidFill>
                <a:srgbClr val="174576"/>
              </a:solidFill>
              <a:latin typeface="Corbel"/>
            </a:endParaRPr>
          </a:p>
          <a:p>
            <a:pPr marL="329040" indent="-329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Oh Yeah?</a:t>
            </a:r>
            <a:endParaRPr b="0" lang="en-US" sz="2000" spc="-1" strike="noStrike">
              <a:solidFill>
                <a:srgbClr val="174576"/>
              </a:solidFill>
              <a:latin typeface="Corbel"/>
            </a:endParaRPr>
          </a:p>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No. I’ll be home soon, though.</a:t>
            </a:r>
            <a:endParaRPr b="0" lang="en-US" sz="2000" spc="-1" strike="noStrike">
              <a:solidFill>
                <a:srgbClr val="174576"/>
              </a:solidFill>
              <a:latin typeface="Corbel"/>
            </a:endParaRPr>
          </a:p>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Is your mother there?</a:t>
            </a:r>
            <a:endParaRPr b="0" lang="en-US" sz="2000" spc="-1" strike="noStrike">
              <a:solidFill>
                <a:srgbClr val="174576"/>
              </a:solidFill>
              <a:latin typeface="Corbel"/>
            </a:endParaRPr>
          </a:p>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She what?</a:t>
            </a:r>
            <a:endParaRPr b="0" lang="en-US" sz="2000" spc="-1" strike="noStrike">
              <a:solidFill>
                <a:srgbClr val="174576"/>
              </a:solidFill>
              <a:latin typeface="Corbel"/>
            </a:endParaRPr>
          </a:p>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Is she still at the game?</a:t>
            </a:r>
            <a:endParaRPr b="0" lang="en-US" sz="2000" spc="-1" strike="noStrike">
              <a:solidFill>
                <a:srgbClr val="174576"/>
              </a:solidFill>
              <a:latin typeface="Corbel"/>
            </a:endParaRPr>
          </a:p>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Go get your mother for me. Get your mother.</a:t>
            </a:r>
            <a:endParaRPr b="0" lang="en-US" sz="2000" spc="-1" strike="noStrike">
              <a:solidFill>
                <a:srgbClr val="174576"/>
              </a:solidFill>
              <a:latin typeface="Corbel"/>
            </a:endParaRPr>
          </a:p>
        </p:txBody>
      </p:sp>
      <p:sp>
        <p:nvSpPr>
          <p:cNvPr id="626" name=""/>
          <p:cNvSpPr txBox="1"/>
          <p:nvPr/>
        </p:nvSpPr>
        <p:spPr>
          <a:xfrm>
            <a:off x="4705200" y="1981080"/>
            <a:ext cx="3657600" cy="397512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Hi there. I’m in Atlanta.</a:t>
            </a:r>
            <a:endParaRPr b="0" lang="en-US" sz="2000" spc="-1" strike="noStrike">
              <a:solidFill>
                <a:srgbClr val="174576"/>
              </a:solidFill>
              <a:latin typeface="Corbe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ell, you know, my session got out late and there was nothing direct.</a:t>
            </a:r>
            <a:endParaRPr b="0" lang="en-US" sz="2000" spc="-1" strike="noStrike">
              <a:solidFill>
                <a:srgbClr val="174576"/>
              </a:solidFill>
              <a:latin typeface="Corbe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How was the game?</a:t>
            </a:r>
            <a:endParaRPr b="0" lang="en-US" sz="2000" spc="-1" strike="noStrike">
              <a:solidFill>
                <a:srgbClr val="174576"/>
              </a:solidFill>
              <a:latin typeface="Corbe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Oh that’s too bad.</a:t>
            </a:r>
            <a:endParaRPr b="0" lang="en-US" sz="2000" spc="-1" strike="noStrike">
              <a:solidFill>
                <a:srgbClr val="174576"/>
              </a:solidFill>
              <a:latin typeface="Corbe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ho were we playing? When did David come in? Gave up some runs? Huh. Is he sleeping?</a:t>
            </a:r>
            <a:endParaRPr b="0" lang="en-US" sz="2000" spc="-1" strike="noStrike">
              <a:solidFill>
                <a:srgbClr val="174576"/>
              </a:solidFill>
              <a:latin typeface="Corbel"/>
            </a:endParaRPr>
          </a:p>
          <a:p>
            <a:pPr marL="343080" indent="-34308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74576"/>
              </a:solidFill>
              <a:latin typeface="Corbel"/>
            </a:endParaRPr>
          </a:p>
        </p:txBody>
      </p:sp>
      <p:sp>
        <p:nvSpPr>
          <p:cNvPr id="627" name="TextBox 5"/>
          <p:cNvSpPr/>
          <p:nvPr/>
        </p:nvSpPr>
        <p:spPr>
          <a:xfrm>
            <a:off x="4705200" y="6151680"/>
            <a:ext cx="3657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03154"/>
                </a:solidFill>
                <a:latin typeface="Arial"/>
              </a:rPr>
              <a:t>Adapted from Larry Weinstein </a:t>
            </a:r>
            <a:endParaRPr b="0" lang="en-US" sz="1000" spc="-1" strike="noStrike">
              <a:solidFill>
                <a:srgbClr val="10315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03154"/>
                </a:solidFill>
                <a:latin typeface="Arial"/>
              </a:rPr>
              <a:t>Writing at the Threshold</a:t>
            </a:r>
            <a:endParaRPr b="0" lang="en-US" sz="1000" spc="-1" strike="noStrike">
              <a:solidFill>
                <a:srgbClr val="103154"/>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7">
                                  <p:stCondLst>
                                    <p:cond delay="0"/>
                                  </p:stCondLst>
                                  <p:childTnLst>
                                    <p:set>
                                      <p:cBhvr>
                                        <p:cTn id="16" dur="1" fill="hold">
                                          <p:stCondLst>
                                            <p:cond delay="0"/>
                                          </p:stCondLst>
                                        </p:cTn>
                                        <p:tgtEl>
                                          <p:spTgt spid="625">
                                            <p:txEl>
                                              <p:pRg st="0" end="0"/>
                                            </p:txEl>
                                          </p:spTgt>
                                        </p:tgtEl>
                                        <p:attrNameLst>
                                          <p:attrName>style.visibility</p:attrName>
                                        </p:attrNameLst>
                                      </p:cBhvr>
                                      <p:to>
                                        <p:strVal val="visible"/>
                                      </p:to>
                                    </p:set>
                                    <p:animEffect filter="fade" transition="in">
                                      <p:cBhvr additive="repl">
                                        <p:cTn id="17" dur="1000"/>
                                        <p:tgtEl>
                                          <p:spTgt spid="625">
                                            <p:txEl>
                                              <p:pRg st="0" end="0"/>
                                            </p:txEl>
                                          </p:spTgt>
                                        </p:tgtEl>
                                      </p:cBhvr>
                                    </p:animEffect>
                                    <p:anim calcmode="lin" valueType="num">
                                      <p:cBhvr additive="repl">
                                        <p:cTn id="18" dur="1000" fill="hold"/>
                                        <p:tgtEl>
                                          <p:spTgt spid="625">
                                            <p:txEl>
                                              <p:pRg st="0" end="0"/>
                                            </p:txEl>
                                          </p:spTgt>
                                        </p:tgtEl>
                                        <p:attrNameLst>
                                          <p:attrName>ppt_x</p:attrName>
                                        </p:attrNameLst>
                                      </p:cBhvr>
                                      <p:tavLst>
                                        <p:tav tm="0">
                                          <p:val>
                                            <p:strVal val="#ppt_x"/>
                                          </p:val>
                                        </p:tav>
                                        <p:tav tm="100000">
                                          <p:val>
                                            <p:strVal val="#ppt_x"/>
                                          </p:val>
                                        </p:tav>
                                      </p:tavLst>
                                    </p:anim>
                                    <p:anim calcmode="lin" valueType="num">
                                      <p:cBhvr additive="repl">
                                        <p:cTn id="19" dur="900" fill="hold"/>
                                        <p:tgtEl>
                                          <p:spTgt spid="625">
                                            <p:txEl>
                                              <p:pRg st="0" end="0"/>
                                            </p:txEl>
                                          </p:spTgt>
                                        </p:tgtEl>
                                        <p:attrNameLst>
                                          <p:attrName>ppt_y</p:attrName>
                                        </p:attrNameLst>
                                      </p:cBhvr>
                                      <p:tavLst>
                                        <p:tav tm="0">
                                          <p:val>
                                            <p:strVal val="#ppt_y+1"/>
                                          </p:val>
                                        </p:tav>
                                        <p:tav tm="100000">
                                          <p:val>
                                            <p:strVal val="#ppt_y-.03"/>
                                          </p:val>
                                        </p:tav>
                                      </p:tavLst>
                                    </p:anim>
                                    <p:anim calcmode="lin" valueType="num">
                                      <p:cBhvr additive="repl">
                                        <p:cTn id="20" dur="100" fill="hold">
                                          <p:stCondLst>
                                            <p:cond delay="900"/>
                                          </p:stCondLst>
                                        </p:cTn>
                                        <p:tgtEl>
                                          <p:spTgt spid="6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7">
                                  <p:stCondLst>
                                    <p:cond delay="0"/>
                                  </p:stCondLst>
                                  <p:childTnLst>
                                    <p:set>
                                      <p:cBhvr>
                                        <p:cTn id="24" dur="1" fill="hold">
                                          <p:stCondLst>
                                            <p:cond delay="0"/>
                                          </p:stCondLst>
                                        </p:cTn>
                                        <p:tgtEl>
                                          <p:spTgt spid="625">
                                            <p:txEl>
                                              <p:pRg st="1" end="1"/>
                                            </p:txEl>
                                          </p:spTgt>
                                        </p:tgtEl>
                                        <p:attrNameLst>
                                          <p:attrName>style.visibility</p:attrName>
                                        </p:attrNameLst>
                                      </p:cBhvr>
                                      <p:to>
                                        <p:strVal val="visible"/>
                                      </p:to>
                                    </p:set>
                                    <p:animEffect filter="fade" transition="in">
                                      <p:cBhvr additive="repl">
                                        <p:cTn id="25" dur="1000"/>
                                        <p:tgtEl>
                                          <p:spTgt spid="625">
                                            <p:txEl>
                                              <p:pRg st="1" end="1"/>
                                            </p:txEl>
                                          </p:spTgt>
                                        </p:tgtEl>
                                      </p:cBhvr>
                                    </p:animEffect>
                                    <p:anim calcmode="lin" valueType="num">
                                      <p:cBhvr additive="repl">
                                        <p:cTn id="26" dur="1000" fill="hold"/>
                                        <p:tgtEl>
                                          <p:spTgt spid="625">
                                            <p:txEl>
                                              <p:pRg st="1" end="1"/>
                                            </p:txEl>
                                          </p:spTgt>
                                        </p:tgtEl>
                                        <p:attrNameLst>
                                          <p:attrName>ppt_x</p:attrName>
                                        </p:attrNameLst>
                                      </p:cBhvr>
                                      <p:tavLst>
                                        <p:tav tm="0">
                                          <p:val>
                                            <p:strVal val="#ppt_x"/>
                                          </p:val>
                                        </p:tav>
                                        <p:tav tm="100000">
                                          <p:val>
                                            <p:strVal val="#ppt_x"/>
                                          </p:val>
                                        </p:tav>
                                      </p:tavLst>
                                    </p:anim>
                                    <p:anim calcmode="lin" valueType="num">
                                      <p:cBhvr additive="repl">
                                        <p:cTn id="27" dur="900" fill="hold"/>
                                        <p:tgtEl>
                                          <p:spTgt spid="625">
                                            <p:txEl>
                                              <p:pRg st="1" end="1"/>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900"/>
                                          </p:stCondLst>
                                        </p:cTn>
                                        <p:tgtEl>
                                          <p:spTgt spid="62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625">
                                            <p:txEl>
                                              <p:pRg st="2" end="2"/>
                                            </p:txEl>
                                          </p:spTgt>
                                        </p:tgtEl>
                                        <p:attrNameLst>
                                          <p:attrName>style.visibility</p:attrName>
                                        </p:attrNameLst>
                                      </p:cBhvr>
                                      <p:to>
                                        <p:strVal val="visible"/>
                                      </p:to>
                                    </p:set>
                                    <p:animEffect filter="fade" transition="in">
                                      <p:cBhvr additive="repl">
                                        <p:cTn id="33" dur="1000"/>
                                        <p:tgtEl>
                                          <p:spTgt spid="625">
                                            <p:txEl>
                                              <p:pRg st="2" end="2"/>
                                            </p:txEl>
                                          </p:spTgt>
                                        </p:tgtEl>
                                      </p:cBhvr>
                                    </p:animEffect>
                                    <p:anim calcmode="lin" valueType="num">
                                      <p:cBhvr additive="repl">
                                        <p:cTn id="34" dur="1000" fill="hold"/>
                                        <p:tgtEl>
                                          <p:spTgt spid="625">
                                            <p:txEl>
                                              <p:pRg st="2" end="2"/>
                                            </p:txEl>
                                          </p:spTgt>
                                        </p:tgtEl>
                                        <p:attrNameLst>
                                          <p:attrName>ppt_x</p:attrName>
                                        </p:attrNameLst>
                                      </p:cBhvr>
                                      <p:tavLst>
                                        <p:tav tm="0">
                                          <p:val>
                                            <p:strVal val="#ppt_x"/>
                                          </p:val>
                                        </p:tav>
                                        <p:tav tm="100000">
                                          <p:val>
                                            <p:strVal val="#ppt_x"/>
                                          </p:val>
                                        </p:tav>
                                      </p:tavLst>
                                    </p:anim>
                                    <p:anim calcmode="lin" valueType="num">
                                      <p:cBhvr additive="repl">
                                        <p:cTn id="35" dur="900" fill="hold"/>
                                        <p:tgtEl>
                                          <p:spTgt spid="625">
                                            <p:txEl>
                                              <p:pRg st="2" end="2"/>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6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625">
                                            <p:txEl>
                                              <p:pRg st="3" end="3"/>
                                            </p:txEl>
                                          </p:spTgt>
                                        </p:tgtEl>
                                        <p:attrNameLst>
                                          <p:attrName>style.visibility</p:attrName>
                                        </p:attrNameLst>
                                      </p:cBhvr>
                                      <p:to>
                                        <p:strVal val="visible"/>
                                      </p:to>
                                    </p:set>
                                    <p:animEffect filter="fade" transition="in">
                                      <p:cBhvr additive="repl">
                                        <p:cTn id="41" dur="1000"/>
                                        <p:tgtEl>
                                          <p:spTgt spid="625">
                                            <p:txEl>
                                              <p:pRg st="3" end="3"/>
                                            </p:txEl>
                                          </p:spTgt>
                                        </p:tgtEl>
                                      </p:cBhvr>
                                    </p:animEffect>
                                    <p:anim calcmode="lin" valueType="num">
                                      <p:cBhvr additive="repl">
                                        <p:cTn id="42" dur="1000" fill="hold"/>
                                        <p:tgtEl>
                                          <p:spTgt spid="625">
                                            <p:txEl>
                                              <p:pRg st="3" end="3"/>
                                            </p:txEl>
                                          </p:spTgt>
                                        </p:tgtEl>
                                        <p:attrNameLst>
                                          <p:attrName>ppt_x</p:attrName>
                                        </p:attrNameLst>
                                      </p:cBhvr>
                                      <p:tavLst>
                                        <p:tav tm="0">
                                          <p:val>
                                            <p:strVal val="#ppt_x"/>
                                          </p:val>
                                        </p:tav>
                                        <p:tav tm="100000">
                                          <p:val>
                                            <p:strVal val="#ppt_x"/>
                                          </p:val>
                                        </p:tav>
                                      </p:tavLst>
                                    </p:anim>
                                    <p:anim calcmode="lin" valueType="num">
                                      <p:cBhvr additive="repl">
                                        <p:cTn id="43" dur="900" fill="hold"/>
                                        <p:tgtEl>
                                          <p:spTgt spid="625">
                                            <p:txEl>
                                              <p:pRg st="3" end="3"/>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62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625">
                                            <p:txEl>
                                              <p:pRg st="4" end="4"/>
                                            </p:txEl>
                                          </p:spTgt>
                                        </p:tgtEl>
                                        <p:attrNameLst>
                                          <p:attrName>style.visibility</p:attrName>
                                        </p:attrNameLst>
                                      </p:cBhvr>
                                      <p:to>
                                        <p:strVal val="visible"/>
                                      </p:to>
                                    </p:set>
                                    <p:animEffect filter="fade" transition="in">
                                      <p:cBhvr additive="repl">
                                        <p:cTn id="49" dur="1000"/>
                                        <p:tgtEl>
                                          <p:spTgt spid="625">
                                            <p:txEl>
                                              <p:pRg st="4" end="4"/>
                                            </p:txEl>
                                          </p:spTgt>
                                        </p:tgtEl>
                                      </p:cBhvr>
                                    </p:animEffect>
                                    <p:anim calcmode="lin" valueType="num">
                                      <p:cBhvr additive="repl">
                                        <p:cTn id="50" dur="1000" fill="hold"/>
                                        <p:tgtEl>
                                          <p:spTgt spid="625">
                                            <p:txEl>
                                              <p:pRg st="4" end="4"/>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625">
                                            <p:txEl>
                                              <p:pRg st="4" end="4"/>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62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625">
                                            <p:txEl>
                                              <p:pRg st="5" end="5"/>
                                            </p:txEl>
                                          </p:spTgt>
                                        </p:tgtEl>
                                        <p:attrNameLst>
                                          <p:attrName>style.visibility</p:attrName>
                                        </p:attrNameLst>
                                      </p:cBhvr>
                                      <p:to>
                                        <p:strVal val="visible"/>
                                      </p:to>
                                    </p:set>
                                    <p:animEffect filter="fade" transition="in">
                                      <p:cBhvr additive="repl">
                                        <p:cTn id="57" dur="1000"/>
                                        <p:tgtEl>
                                          <p:spTgt spid="625">
                                            <p:txEl>
                                              <p:pRg st="5" end="5"/>
                                            </p:txEl>
                                          </p:spTgt>
                                        </p:tgtEl>
                                      </p:cBhvr>
                                    </p:animEffect>
                                    <p:anim calcmode="lin" valueType="num">
                                      <p:cBhvr additive="repl">
                                        <p:cTn id="58" dur="1000" fill="hold"/>
                                        <p:tgtEl>
                                          <p:spTgt spid="625">
                                            <p:txEl>
                                              <p:pRg st="5" end="5"/>
                                            </p:txEl>
                                          </p:spTgt>
                                        </p:tgtEl>
                                        <p:attrNameLst>
                                          <p:attrName>ppt_x</p:attrName>
                                        </p:attrNameLst>
                                      </p:cBhvr>
                                      <p:tavLst>
                                        <p:tav tm="0">
                                          <p:val>
                                            <p:strVal val="#ppt_x"/>
                                          </p:val>
                                        </p:tav>
                                        <p:tav tm="100000">
                                          <p:val>
                                            <p:strVal val="#ppt_x"/>
                                          </p:val>
                                        </p:tav>
                                      </p:tavLst>
                                    </p:anim>
                                    <p:anim calcmode="lin" valueType="num">
                                      <p:cBhvr additive="repl">
                                        <p:cTn id="59" dur="900" fill="hold"/>
                                        <p:tgtEl>
                                          <p:spTgt spid="625">
                                            <p:txEl>
                                              <p:pRg st="5" end="5"/>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62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625">
                                            <p:txEl>
                                              <p:pRg st="6" end="6"/>
                                            </p:txEl>
                                          </p:spTgt>
                                        </p:tgtEl>
                                        <p:attrNameLst>
                                          <p:attrName>style.visibility</p:attrName>
                                        </p:attrNameLst>
                                      </p:cBhvr>
                                      <p:to>
                                        <p:strVal val="visible"/>
                                      </p:to>
                                    </p:set>
                                    <p:animEffect filter="fade" transition="in">
                                      <p:cBhvr additive="repl">
                                        <p:cTn id="65" dur="1000"/>
                                        <p:tgtEl>
                                          <p:spTgt spid="625">
                                            <p:txEl>
                                              <p:pRg st="6" end="6"/>
                                            </p:txEl>
                                          </p:spTgt>
                                        </p:tgtEl>
                                      </p:cBhvr>
                                    </p:animEffect>
                                    <p:anim calcmode="lin" valueType="num">
                                      <p:cBhvr additive="repl">
                                        <p:cTn id="66" dur="1000" fill="hold"/>
                                        <p:tgtEl>
                                          <p:spTgt spid="625">
                                            <p:txEl>
                                              <p:pRg st="6" end="6"/>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625">
                                            <p:txEl>
                                              <p:pRg st="6" end="6"/>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625">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626">
                                            <p:txEl>
                                              <p:pRg st="0" end="0"/>
                                            </p:txEl>
                                          </p:spTgt>
                                        </p:tgtEl>
                                        <p:attrNameLst>
                                          <p:attrName>style.visibility</p:attrName>
                                        </p:attrNameLst>
                                      </p:cBhvr>
                                      <p:to>
                                        <p:strVal val="visible"/>
                                      </p:to>
                                    </p:set>
                                    <p:animEffect filter="slide(fromBottom)" transition="in">
                                      <p:cBhvr additive="repl">
                                        <p:cTn id="73" dur="500"/>
                                        <p:tgtEl>
                                          <p:spTgt spid="62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626">
                                            <p:txEl>
                                              <p:pRg st="1" end="1"/>
                                            </p:txEl>
                                          </p:spTgt>
                                        </p:tgtEl>
                                        <p:attrNameLst>
                                          <p:attrName>style.visibility</p:attrName>
                                        </p:attrNameLst>
                                      </p:cBhvr>
                                      <p:to>
                                        <p:strVal val="visible"/>
                                      </p:to>
                                    </p:set>
                                    <p:animEffect filter="slide(fromBottom)" transition="in">
                                      <p:cBhvr additive="repl">
                                        <p:cTn id="78" dur="500"/>
                                        <p:tgtEl>
                                          <p:spTgt spid="62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626">
                                            <p:txEl>
                                              <p:pRg st="2" end="2"/>
                                            </p:txEl>
                                          </p:spTgt>
                                        </p:tgtEl>
                                        <p:attrNameLst>
                                          <p:attrName>style.visibility</p:attrName>
                                        </p:attrNameLst>
                                      </p:cBhvr>
                                      <p:to>
                                        <p:strVal val="visible"/>
                                      </p:to>
                                    </p:set>
                                    <p:animEffect filter="slide(fromBottom)" transition="in">
                                      <p:cBhvr additive="repl">
                                        <p:cTn id="83" dur="500"/>
                                        <p:tgtEl>
                                          <p:spTgt spid="62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626">
                                            <p:txEl>
                                              <p:pRg st="3" end="3"/>
                                            </p:txEl>
                                          </p:spTgt>
                                        </p:tgtEl>
                                        <p:attrNameLst>
                                          <p:attrName>style.visibility</p:attrName>
                                        </p:attrNameLst>
                                      </p:cBhvr>
                                      <p:to>
                                        <p:strVal val="visible"/>
                                      </p:to>
                                    </p:set>
                                    <p:animEffect filter="slide(fromBottom)" transition="in">
                                      <p:cBhvr additive="repl">
                                        <p:cTn id="88" dur="500"/>
                                        <p:tgtEl>
                                          <p:spTgt spid="62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626">
                                            <p:txEl>
                                              <p:pRg st="4" end="4"/>
                                            </p:txEl>
                                          </p:spTgt>
                                        </p:tgtEl>
                                        <p:attrNameLst>
                                          <p:attrName>style.visibility</p:attrName>
                                        </p:attrNameLst>
                                      </p:cBhvr>
                                      <p:to>
                                        <p:strVal val="visible"/>
                                      </p:to>
                                    </p:set>
                                    <p:animEffect filter="slide(fromBottom)" transition="in">
                                      <p:cBhvr additive="repl">
                                        <p:cTn id="93" dur="500"/>
                                        <p:tgtEl>
                                          <p:spTgt spid="6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3:02:48Z</dcterms:created>
  <dc:creator>John Barbery</dc:creator>
  <dc:description/>
  <dc:language>en-US</dc:language>
  <cp:lastModifiedBy>kxcarma</cp:lastModifiedBy>
  <cp:lastPrinted>2011-07-06T03:58:29Z</cp:lastPrinted>
  <dcterms:modified xsi:type="dcterms:W3CDTF">2011-07-06T15:04:53Z</dcterms:modified>
  <cp:revision>5</cp:revision>
  <dc:subject/>
  <dc:title>What can be more powerful than words?</dc:title>
</cp:coreProperties>
</file>